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67A-F666-4314-9C39-53C21649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0DA-5BA0-4F94-B364-C4D7629B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01B-D027-42DC-B6C0-4D1BCC34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93C-35A1-4BA1-A8D0-9B9872E1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F37-329E-480E-9687-51CF5E46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7A9-CC9C-41AD-B9DD-D63CE968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0FC-FDC4-4E6B-A9A1-991855C3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C8B-A09D-455E-BC74-E5EB500E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189-4FF1-4857-AC68-5300ACE6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627-CDE8-4BE5-B0B9-EC7AC9F8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7EF-608F-44A6-9A32-36589402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36B-6F7D-4342-B4E1-4460D4C5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FB1A-053F-4380-BF16-9A10AC1FE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missouri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states/missouri/" TargetMode="External"/><Relationship Id="rId4" Type="http://schemas.openxmlformats.org/officeDocument/2006/relationships/hyperlink" Target="http://www.enchantedlearning.com/usa/flags/missouri/missouriflag.shtml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ww.enchantedlearning.com/usa/states/missouri/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stcardsfrom.com/t1/991012.html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theus50.com/missouri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birds/printouts/Easternbluebird.shtml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enchantedlearning.com/usa/states/missouri/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enchantedlearning.com/usa/states/missouri/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5253120"/>
            <a:ext cx="3809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2666880"/>
            <a:ext cx="5638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ssou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579132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, missouri,4/4/12, 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5529240"/>
            <a:ext cx="2438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ouri state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: Jeff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5,595,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the Union: Aug 10,18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: The welfare of the people shall be supreme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Show m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Ca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Blue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Missouri: Wal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Algonquian (river) may (muddy ri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biggest state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fish: Channel Cat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mineral: Ga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2428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434340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3/21/12, Missouri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720800"/>
            <a:ext cx="4419720" cy="257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426708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3/22/12, state flag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All images Copyright © 1997 - 2000 WriteLine. All Rights Reserved. Saint Louis Arch"/>
          <p:cNvPicPr/>
          <p:nvPr/>
        </p:nvPicPr>
        <p:blipFill>
          <a:blip r:embed="rId1"/>
          <a:stretch/>
        </p:blipFill>
        <p:spPr>
          <a:xfrm>
            <a:off x="0" y="0"/>
            <a:ext cx="5105520" cy="3560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3581280"/>
            <a:ext cx="3200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 form, 3/22/12, St. Louis Arch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101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Missouri State collage of images."/>
          <p:cNvPicPr/>
          <p:nvPr/>
        </p:nvPicPr>
        <p:blipFill>
          <a:blip r:embed="rId3"/>
          <a:srcRect l="0" t="6395" r="81380" b="0"/>
          <a:stretch/>
        </p:blipFill>
        <p:spPr>
          <a:xfrm>
            <a:off x="5562720" y="304920"/>
            <a:ext cx="2133360" cy="4162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91320" y="4191120"/>
            <a:ext cx="2209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us50, 3/22/12, St. Louis Arch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heus50.com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819520" cy="258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51460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3/22/12, blue bird/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mule"/>
          <p:cNvPicPr/>
          <p:nvPr/>
        </p:nvPicPr>
        <p:blipFill>
          <a:blip r:embed="rId4"/>
          <a:stretch/>
        </p:blipFill>
        <p:spPr>
          <a:xfrm>
            <a:off x="6172200" y="0"/>
            <a:ext cx="251460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248520" y="1523880"/>
            <a:ext cx="2666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3/22/12, Missouri mule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733920" y="350532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29000" y="5254560"/>
            <a:ext cx="3352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3/22/12, honey bee, 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fiddle"/>
          <p:cNvPicPr/>
          <p:nvPr/>
        </p:nvPicPr>
        <p:blipFill>
          <a:blip r:embed="rId7"/>
          <a:stretch/>
        </p:blipFill>
        <p:spPr>
          <a:xfrm>
            <a:off x="304920" y="4114800"/>
            <a:ext cx="1981080" cy="111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5181480"/>
            <a:ext cx="2590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3/22/12, fiddle, 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5Z</dcterms:created>
  <dc:creator>install</dc:creator>
  <dc:description/>
  <dc:language>en-US</dc:language>
  <cp:lastModifiedBy>install</cp:lastModifiedBy>
  <dcterms:modified xsi:type="dcterms:W3CDTF">2012-04-16T13:05:04Z</dcterms:modified>
  <cp:revision>22</cp:revision>
  <dc:subject/>
  <dc:title>Slide 1</dc:title>
</cp:coreProperties>
</file>